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D31-AEF5-442C-889C-BC55A5EF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074-2442-4274-90DF-20F1ADDA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FE5-A692-4D71-8D90-755A6CAF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AAA-B5C1-4593-83B0-4894B07F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39EDD-FAF2-4C76-9ADD-C63F2453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179A6-D585-4A69-B4CC-ADEEBAFC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6FF94-733F-4FB1-9FCE-D6A2FEE6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DA33D-A191-44B1-BE61-A77D9540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7C9E3-65B3-4C91-9426-54722845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BCC45-CD51-4297-AF6F-908F2721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90139-A58B-4D88-B95B-ED20F832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9CF-A452-4A2E-BF1C-04A76928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AB645-1C79-447C-A8EF-228B6399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AC85E-ABA7-43D4-ABFC-6ED9871C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7BD2F-814E-4554-A1DD-AA436D2F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D7A1B-B0F2-4CD5-AE88-BFEEFE35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CB7E6-9438-4AD0-9848-DE1AA0D7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1A970-009A-432F-A5DC-616C2637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71679-F4F9-4F95-9ADC-D437B645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B0400-FD57-469F-A5F1-2E4F6937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B75E8-2C5A-4BC5-8C9E-695E3D3B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7CAC0-66ED-4CD2-B569-ECC718E4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D09-D613-469E-A456-5615CC76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42276-7DCA-4173-A4CA-6D12F7EB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1C60F-0CDE-4A9C-B53C-A0C83D27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C359E-3989-440A-B413-31947D67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4CD4-2C1B-40EE-B61C-E9074CE8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16E49-D7F3-47C9-ACDB-4F990933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9EC23-F20D-4324-AAAB-7C516DAE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866F2-07A6-4161-841E-7C6960CC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FAEB52-F100-4751-9806-B9D92862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DA0053-8190-44DC-9280-1C947EBB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9CEC83-7D14-4753-A21B-0A5993E7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CB5-F665-4EE0-873C-D4C8E923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2C81D3-CACC-4132-ADCF-6605C0F0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BB5F2F-FF35-4A75-BFEA-562E6F46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72FAEB-D0F7-4639-BBEC-1E26999B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7E82E1-BBD4-4952-B023-846171CB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4B7F19-F292-4EC0-9D67-15579AAB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F603A-4B16-4116-BFCB-FF440170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ED4DF1-D759-4849-87FC-78B41956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104CFC-1343-44FB-B59B-29FDFEC1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D7F351-4B7B-4036-90AD-3290FC48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805-7206-41D3-A4C1-9AA1B911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D1B-715B-41B6-88CD-D7CE8E5E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9F5-EB2B-4386-8569-9822D0BD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DDE-F8DF-44CB-81C7-DF31ADD6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925-BCCA-41F0-A042-280BF410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4e7ed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A060-6265-4080-A772-E0D153DFA100}" type="slidenum">
              <a:rPr b="0" lang="es-ES" sz="1600" spc="-1" strike="noStrike">
                <a:solidFill>
                  <a:srgbClr val="f4e7e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c66bb"/>
          </a:solidFill>
          <a:ln w="38160">
            <a:solidFill>
              <a:srgbClr val="ac66bb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4e7ed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5AE4-B941-4CF4-A5AD-C354DE60336A}" type="slidenum">
              <a:rPr b="0" lang="es-ES" sz="1600" spc="-1" strike="noStrike">
                <a:solidFill>
                  <a:srgbClr val="f4e7e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4e7ed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C1DC-EE3C-4BDD-B086-FBC04DF27CC9}" type="slidenum">
              <a:rPr b="0" lang="es-ES" sz="1600" spc="-1" strike="noStrike">
                <a:solidFill>
                  <a:srgbClr val="f4e7e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4e7ed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2E9D-79F7-4511-8CA4-77A84ED47E80}" type="slidenum">
              <a:rPr b="0" lang="es-ES" sz="1600" spc="-1" strike="noStrike">
                <a:solidFill>
                  <a:srgbClr val="f4e7e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banderA CANADA"/>
          <p:cNvPicPr/>
          <p:nvPr/>
        </p:nvPicPr>
        <p:blipFill>
          <a:blip r:embed="rId1"/>
          <a:stretch/>
        </p:blipFill>
        <p:spPr>
          <a:xfrm>
            <a:off x="971640" y="907920"/>
            <a:ext cx="5688000" cy="4795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 rot="5400000">
            <a:off x="4370040" y="3371760"/>
            <a:ext cx="6596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CANAD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QUÉBE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MONTRÉ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autobus"/>
          <p:cNvPicPr/>
          <p:nvPr/>
        </p:nvPicPr>
        <p:blipFill>
          <a:blip r:embed="rId1"/>
          <a:stretch/>
        </p:blipFill>
        <p:spPr>
          <a:xfrm>
            <a:off x="179280" y="765000"/>
            <a:ext cx="2952720" cy="2730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subtes"/>
          <p:cNvPicPr/>
          <p:nvPr/>
        </p:nvPicPr>
        <p:blipFill>
          <a:blip r:embed="rId2"/>
          <a:stretch/>
        </p:blipFill>
        <p:spPr>
          <a:xfrm>
            <a:off x="179280" y="3860640"/>
            <a:ext cx="3888000" cy="2637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3"/>
          <p:cNvSpPr/>
          <p:nvPr/>
        </p:nvSpPr>
        <p:spPr>
          <a:xfrm>
            <a:off x="826920" y="0"/>
            <a:ext cx="53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ffff"/>
                </a:solidFill>
                <a:uFillTx/>
                <a:latin typeface="Verdana"/>
              </a:rPr>
              <a:t>TRANSPOR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10 CuadroTexto"/>
          <p:cNvSpPr/>
          <p:nvPr/>
        </p:nvSpPr>
        <p:spPr>
          <a:xfrm>
            <a:off x="722160" y="328464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Autob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11 CuadroTexto"/>
          <p:cNvSpPr/>
          <p:nvPr/>
        </p:nvSpPr>
        <p:spPr>
          <a:xfrm>
            <a:off x="2927160" y="633420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Métr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11" descr="C:\Documents and Settings\Usuario\Escritorio\Taxi.jpg"/>
          <p:cNvPicPr/>
          <p:nvPr/>
        </p:nvPicPr>
        <p:blipFill>
          <a:blip r:embed="rId3"/>
          <a:stretch/>
        </p:blipFill>
        <p:spPr>
          <a:xfrm>
            <a:off x="5219640" y="189000"/>
            <a:ext cx="3705120" cy="2469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via"/>
          <p:cNvPicPr/>
          <p:nvPr/>
        </p:nvPicPr>
        <p:blipFill>
          <a:blip r:embed="rId4"/>
          <a:stretch/>
        </p:blipFill>
        <p:spPr>
          <a:xfrm>
            <a:off x="2916360" y="1844640"/>
            <a:ext cx="4103640" cy="2521080"/>
          </a:xfrm>
          <a:prstGeom prst="rect">
            <a:avLst/>
          </a:prstGeom>
          <a:ln w="0">
            <a:noFill/>
          </a:ln>
        </p:spPr>
      </p:pic>
      <p:sp>
        <p:nvSpPr>
          <p:cNvPr id="220" name="15 CuadroTexto"/>
          <p:cNvSpPr/>
          <p:nvPr/>
        </p:nvSpPr>
        <p:spPr>
          <a:xfrm>
            <a:off x="7972920" y="2637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Tax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17 CuadroTexto"/>
          <p:cNvSpPr/>
          <p:nvPr/>
        </p:nvSpPr>
        <p:spPr>
          <a:xfrm>
            <a:off x="3431880" y="1341360"/>
            <a:ext cx="10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Tra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Picture 5" descr="Aeropuerto-Internacional-Pierre-Elliott-Trudeau"/>
          <p:cNvPicPr/>
          <p:nvPr/>
        </p:nvPicPr>
        <p:blipFill>
          <a:blip r:embed="rId5"/>
          <a:stretch/>
        </p:blipFill>
        <p:spPr>
          <a:xfrm>
            <a:off x="4859280" y="3789360"/>
            <a:ext cx="4070520" cy="2714760"/>
          </a:xfrm>
          <a:prstGeom prst="rect">
            <a:avLst/>
          </a:prstGeom>
          <a:ln w="0">
            <a:noFill/>
          </a:ln>
        </p:spPr>
      </p:pic>
      <p:sp>
        <p:nvSpPr>
          <p:cNvPr id="223" name="19 CuadroTexto"/>
          <p:cNvSpPr/>
          <p:nvPr/>
        </p:nvSpPr>
        <p:spPr>
          <a:xfrm>
            <a:off x="5066280" y="6334200"/>
            <a:ext cx="39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Aéroport Internation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3276720" y="24210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ffffff"/>
                </a:solidFill>
                <a:latin typeface="Bradley Hand ITC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6"/>
          <p:cNvSpPr/>
          <p:nvPr/>
        </p:nvSpPr>
        <p:spPr>
          <a:xfrm>
            <a:off x="5292720" y="443700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43640" y="692280"/>
            <a:ext cx="43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ff"/>
                </a:solidFill>
                <a:latin typeface="Verdana"/>
              </a:rPr>
              <a:t>CANADA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5" descr="C:\Documents and Settings\Usuario\Escritorio\Amerique.jpg"/>
          <p:cNvPicPr/>
          <p:nvPr/>
        </p:nvPicPr>
        <p:blipFill>
          <a:blip r:embed="rId1"/>
          <a:stretch/>
        </p:blipFill>
        <p:spPr>
          <a:xfrm>
            <a:off x="539640" y="189000"/>
            <a:ext cx="5472360" cy="642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canada-toronto-l2"/>
          <p:cNvPicPr/>
          <p:nvPr/>
        </p:nvPicPr>
        <p:blipFill>
          <a:blip r:embed="rId1"/>
          <a:stretch/>
        </p:blipFill>
        <p:spPr>
          <a:xfrm>
            <a:off x="0" y="3213000"/>
            <a:ext cx="4662360" cy="3645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anada 2"/>
          <p:cNvPicPr/>
          <p:nvPr/>
        </p:nvPicPr>
        <p:blipFill>
          <a:blip r:embed="rId2"/>
          <a:stretch/>
        </p:blipFill>
        <p:spPr>
          <a:xfrm>
            <a:off x="4290840" y="0"/>
            <a:ext cx="4853160" cy="3502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CANADA 1"/>
          <p:cNvPicPr/>
          <p:nvPr/>
        </p:nvPicPr>
        <p:blipFill>
          <a:blip r:embed="rId3"/>
          <a:stretch/>
        </p:blipFill>
        <p:spPr>
          <a:xfrm>
            <a:off x="0" y="0"/>
            <a:ext cx="4362480" cy="3273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CANADA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Documents and Settings\Usuario\Escritorio\6f1c293g.jpg"/>
          <p:cNvPicPr/>
          <p:nvPr/>
        </p:nvPicPr>
        <p:blipFill>
          <a:blip r:embed="rId1"/>
          <a:stretch/>
        </p:blipFill>
        <p:spPr>
          <a:xfrm>
            <a:off x="2124000" y="476280"/>
            <a:ext cx="6624720" cy="5835600"/>
          </a:xfrm>
          <a:prstGeom prst="rect">
            <a:avLst/>
          </a:prstGeom>
          <a:ln w="0">
            <a:noFill/>
          </a:ln>
        </p:spPr>
      </p:pic>
      <p:pic>
        <p:nvPicPr>
          <p:cNvPr id="180" name="5 CuadroTexto" descr=""/>
          <p:cNvPicPr/>
          <p:nvPr/>
        </p:nvPicPr>
        <p:blipFill>
          <a:blip r:embed="rId2"/>
          <a:stretch/>
        </p:blipFill>
        <p:spPr>
          <a:xfrm>
            <a:off x="390600" y="396720"/>
            <a:ext cx="1882800" cy="5918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city montrea"/>
          <p:cNvPicPr/>
          <p:nvPr/>
        </p:nvPicPr>
        <p:blipFill>
          <a:blip r:embed="rId1"/>
          <a:srcRect l="4337" t="0" r="0" b="0"/>
          <a:stretch/>
        </p:blipFill>
        <p:spPr>
          <a:xfrm>
            <a:off x="0" y="3933720"/>
            <a:ext cx="5545080" cy="2924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invierno montreal"/>
          <p:cNvPicPr/>
          <p:nvPr/>
        </p:nvPicPr>
        <p:blipFill>
          <a:blip r:embed="rId2"/>
          <a:stretch/>
        </p:blipFill>
        <p:spPr>
          <a:xfrm>
            <a:off x="5292720" y="0"/>
            <a:ext cx="3851280" cy="3862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city-of-montreal"/>
          <p:cNvPicPr/>
          <p:nvPr/>
        </p:nvPicPr>
        <p:blipFill>
          <a:blip r:embed="rId3"/>
          <a:stretch/>
        </p:blipFill>
        <p:spPr>
          <a:xfrm>
            <a:off x="0" y="0"/>
            <a:ext cx="5329080" cy="3998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city_montreal"/>
          <p:cNvPicPr/>
          <p:nvPr/>
        </p:nvPicPr>
        <p:blipFill>
          <a:blip r:embed="rId4"/>
          <a:stretch/>
        </p:blipFill>
        <p:spPr>
          <a:xfrm>
            <a:off x="5292720" y="3860640"/>
            <a:ext cx="3851280" cy="3046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9"/>
          <p:cNvSpPr/>
          <p:nvPr/>
        </p:nvSpPr>
        <p:spPr>
          <a:xfrm>
            <a:off x="324000" y="551664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Verdana"/>
              </a:rPr>
              <a:t>GASTRONOMIE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8" descr="C:\Documents and Settings\Usuario\Escritorio\poutine.jpg"/>
          <p:cNvPicPr/>
          <p:nvPr/>
        </p:nvPicPr>
        <p:blipFill>
          <a:blip r:embed="rId1"/>
          <a:stretch/>
        </p:blipFill>
        <p:spPr>
          <a:xfrm rot="21445200">
            <a:off x="398520" y="506520"/>
            <a:ext cx="4575240" cy="3430440"/>
          </a:xfrm>
          <a:prstGeom prst="rect">
            <a:avLst/>
          </a:prstGeom>
          <a:ln w="0">
            <a:noFill/>
          </a:ln>
        </p:spPr>
      </p:pic>
      <p:sp>
        <p:nvSpPr>
          <p:cNvPr id="187" name="9 CuadroTexto"/>
          <p:cNvSpPr/>
          <p:nvPr/>
        </p:nvSpPr>
        <p:spPr>
          <a:xfrm>
            <a:off x="900000" y="443700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POUT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24"/>
          <p:cNvSpPr/>
          <p:nvPr/>
        </p:nvSpPr>
        <p:spPr>
          <a:xfrm rot="19798800">
            <a:off x="2738160" y="4185720"/>
            <a:ext cx="1446120" cy="540000"/>
          </a:xfrm>
          <a:custGeom>
            <a:avLst/>
            <a:gdLst>
              <a:gd name="textAreaLeft" fmla="*/ 222840 w 1446120"/>
              <a:gd name="textAreaRight" fmla="*/ 1038600 w 1446120"/>
              <a:gd name="textAreaTop" fmla="*/ 72360 h 540000"/>
              <a:gd name="textAreaBottom" fmla="*/ 46764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61" hR="21600" stAng="10800000" swAng="-5400000"/>
                <a:lnTo>
                  <a:pt x="12180" y="21600"/>
                </a:lnTo>
                <a:arcTo wR="6661" hR="21600" stAng="5400000" swAng="-2465626"/>
                <a:lnTo>
                  <a:pt x="21219" y="7200"/>
                </a:lnTo>
                <a:lnTo>
                  <a:pt x="16081" y="0"/>
                </a:lnTo>
                <a:lnTo>
                  <a:pt x="10180" y="7200"/>
                </a:lnTo>
                <a:lnTo>
                  <a:pt x="12940" y="7200"/>
                </a:lnTo>
                <a:arcTo wR="6661" hR="21600" stAng="2934374" swAng="1986206"/>
                <a:lnTo>
                  <a:pt x="9420" y="19659"/>
                </a:lnTo>
                <a:arcTo wR="6661" hR="21600" stAng="5879419" swAng="4920581"/>
                <a:close/>
              </a:path>
              <a:path fill="darkenLess" w="21600" h="21600">
                <a:moveTo>
                  <a:pt x="0" y="0"/>
                </a:moveTo>
                <a:arcTo wR="6661" hR="21600" stAng="10800000" swAng="-5400000"/>
                <a:lnTo>
                  <a:pt x="12180" y="21600"/>
                </a:lnTo>
                <a:arcTo wR="6661" hR="21600" stAng="5400000" swAng="479419"/>
                <a:lnTo>
                  <a:pt x="9420" y="19659"/>
                </a:lnTo>
                <a:arcTo wR="6661" hR="21600" stAng="5879419" swAng="4920581"/>
                <a:close/>
              </a:path>
            </a:pathLst>
          </a:cu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24"/>
          <p:cNvSpPr/>
          <p:nvPr/>
        </p:nvSpPr>
        <p:spPr>
          <a:xfrm flipH="1" flipV="1" rot="19798800">
            <a:off x="5314320" y="1325160"/>
            <a:ext cx="1512720" cy="495360"/>
          </a:xfrm>
          <a:custGeom>
            <a:avLst/>
            <a:gdLst>
              <a:gd name="textAreaLeft" fmla="*/ 251280 w 1512720"/>
              <a:gd name="textAreaRight" fmla="*/ 1092600 w 1512720"/>
              <a:gd name="textAreaTop" fmla="*/ 66240 h 495360"/>
              <a:gd name="textAreaBottom" fmla="*/ 4291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173" hR="21600" stAng="10800000" swAng="-5400000"/>
                <a:lnTo>
                  <a:pt x="12009" y="21600"/>
                </a:lnTo>
                <a:arcTo wR="7173" hR="21600" stAng="5400000" swAng="-2592385"/>
                <a:lnTo>
                  <a:pt x="21190" y="7200"/>
                </a:lnTo>
                <a:lnTo>
                  <a:pt x="16764" y="0"/>
                </a:lnTo>
                <a:lnTo>
                  <a:pt x="11518" y="7200"/>
                </a:lnTo>
                <a:lnTo>
                  <a:pt x="13936" y="7200"/>
                </a:lnTo>
                <a:arcTo wR="7173" hR="21600" stAng="2807615" swAng="2185534"/>
                <a:lnTo>
                  <a:pt x="9591" y="20336"/>
                </a:lnTo>
                <a:arcTo wR="7173" hR="21600" stAng="5806851" swAng="4993149"/>
                <a:close/>
              </a:path>
              <a:path fill="darkenLess" w="21600" h="21600">
                <a:moveTo>
                  <a:pt x="0" y="0"/>
                </a:moveTo>
                <a:arcTo wR="7173" hR="21600" stAng="10800000" swAng="-5400000"/>
                <a:lnTo>
                  <a:pt x="12009" y="21600"/>
                </a:lnTo>
                <a:arcTo wR="7173" hR="21600" stAng="5400000" swAng="406851"/>
                <a:lnTo>
                  <a:pt x="9591" y="20336"/>
                </a:lnTo>
                <a:arcTo wR="7173" hR="21600" stAng="5806851" swAng="4993149"/>
                <a:close/>
              </a:path>
            </a:pathLst>
          </a:cu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13 CuadroTexto"/>
          <p:cNvSpPr/>
          <p:nvPr/>
        </p:nvSpPr>
        <p:spPr>
          <a:xfrm>
            <a:off x="6886440" y="112536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GUÉDIL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9" descr="C:\Documents and Settings\Usuario\Escritorio\Homard2 016 (1).jpg"/>
          <p:cNvPicPr/>
          <p:nvPr/>
        </p:nvPicPr>
        <p:blipFill>
          <a:blip r:embed="rId2"/>
          <a:stretch/>
        </p:blipFill>
        <p:spPr>
          <a:xfrm rot="543000">
            <a:off x="4718160" y="2442960"/>
            <a:ext cx="4203720" cy="315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1 Rectángulo"/>
          <p:cNvSpPr/>
          <p:nvPr/>
        </p:nvSpPr>
        <p:spPr>
          <a:xfrm>
            <a:off x="684360" y="1268280"/>
            <a:ext cx="7632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0" spc="-1" strike="noStrike">
                <a:solidFill>
                  <a:srgbClr val="ffffff"/>
                </a:solidFill>
                <a:latin typeface="Verdana"/>
              </a:rPr>
              <a:t>Quoi faire à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0" spc="-1" strike="noStrike">
                <a:solidFill>
                  <a:srgbClr val="ffffff"/>
                </a:solidFill>
                <a:latin typeface="Verdana"/>
              </a:rPr>
              <a:t>Montréal?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2916360" y="0"/>
            <a:ext cx="2590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5" descr="biadome 1"/>
          <p:cNvPicPr/>
          <p:nvPr/>
        </p:nvPicPr>
        <p:blipFill>
          <a:blip r:embed="rId1"/>
          <a:stretch/>
        </p:blipFill>
        <p:spPr>
          <a:xfrm>
            <a:off x="611280" y="1125360"/>
            <a:ext cx="4017960" cy="2714760"/>
          </a:xfrm>
          <a:prstGeom prst="rect">
            <a:avLst/>
          </a:prstGeom>
          <a:ln w="0">
            <a:noFill/>
          </a:ln>
        </p:spPr>
      </p:pic>
      <p:sp>
        <p:nvSpPr>
          <p:cNvPr id="195" name="6 CuadroTexto"/>
          <p:cNvSpPr/>
          <p:nvPr/>
        </p:nvSpPr>
        <p:spPr>
          <a:xfrm>
            <a:off x="497520" y="40053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Biôdo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4" descr="planetarium de"/>
          <p:cNvPicPr/>
          <p:nvPr/>
        </p:nvPicPr>
        <p:blipFill>
          <a:blip r:embed="rId2"/>
          <a:stretch/>
        </p:blipFill>
        <p:spPr>
          <a:xfrm>
            <a:off x="5867280" y="189000"/>
            <a:ext cx="3083040" cy="3065400"/>
          </a:xfrm>
          <a:prstGeom prst="rect">
            <a:avLst/>
          </a:prstGeom>
          <a:ln w="0">
            <a:noFill/>
          </a:ln>
        </p:spPr>
      </p:pic>
      <p:sp>
        <p:nvSpPr>
          <p:cNvPr id="197" name="8 CuadroTexto"/>
          <p:cNvSpPr/>
          <p:nvPr/>
        </p:nvSpPr>
        <p:spPr>
          <a:xfrm>
            <a:off x="324000" y="260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Verdana"/>
              </a:rPr>
              <a:t>MUSÉ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9 CuadroTexto"/>
          <p:cNvSpPr/>
          <p:nvPr/>
        </p:nvSpPr>
        <p:spPr>
          <a:xfrm>
            <a:off x="6925680" y="34290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Planétari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8" descr="centre-d-exposition-la-prison-des-patriotes"/>
          <p:cNvPicPr/>
          <p:nvPr/>
        </p:nvPicPr>
        <p:blipFill>
          <a:blip r:embed="rId3"/>
          <a:stretch/>
        </p:blipFill>
        <p:spPr>
          <a:xfrm>
            <a:off x="4067280" y="4005360"/>
            <a:ext cx="3716280" cy="2685960"/>
          </a:xfrm>
          <a:prstGeom prst="rect">
            <a:avLst/>
          </a:prstGeom>
          <a:ln w="0">
            <a:noFill/>
          </a:ln>
        </p:spPr>
      </p:pic>
      <p:sp>
        <p:nvSpPr>
          <p:cNvPr id="200" name="11 CuadroTexto"/>
          <p:cNvSpPr/>
          <p:nvPr/>
        </p:nvSpPr>
        <p:spPr>
          <a:xfrm>
            <a:off x="390240" y="5805360"/>
            <a:ext cx="34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Centre d´exposi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La Prison-des-Patrio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AutoShape 10"/>
          <p:cNvSpPr/>
          <p:nvPr/>
        </p:nvSpPr>
        <p:spPr>
          <a:xfrm flipH="1" rot="1956000">
            <a:off x="5784480" y="3300120"/>
            <a:ext cx="1009800" cy="519120"/>
          </a:xfrm>
          <a:custGeom>
            <a:avLst/>
            <a:gdLst>
              <a:gd name="textAreaLeft" fmla="*/ 149400 w 1009800"/>
              <a:gd name="textAreaRight" fmla="*/ 722880 w 10098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391" hR="21600" stAng="10800000" swAng="-5400000"/>
                <a:lnTo>
                  <a:pt x="12270" y="21600"/>
                </a:lnTo>
                <a:arcTo wR="6391" hR="21600" stAng="5400000" swAng="-2395373"/>
                <a:lnTo>
                  <a:pt x="21235" y="7200"/>
                </a:lnTo>
                <a:lnTo>
                  <a:pt x="15721" y="0"/>
                </a:lnTo>
                <a:lnTo>
                  <a:pt x="9476" y="7200"/>
                </a:lnTo>
                <a:lnTo>
                  <a:pt x="12416" y="7200"/>
                </a:lnTo>
                <a:arcTo wR="6391" hR="21600" stAng="3004627" swAng="1872557"/>
                <a:lnTo>
                  <a:pt x="9330" y="19179"/>
                </a:lnTo>
                <a:arcTo wR="6391" hR="21600" stAng="5922816" swAng="4877184"/>
                <a:close/>
              </a:path>
              <a:path fill="darkenLess" w="21600" h="21600">
                <a:moveTo>
                  <a:pt x="0" y="0"/>
                </a:moveTo>
                <a:arcTo wR="6391" hR="21600" stAng="10800000" swAng="-5400000"/>
                <a:lnTo>
                  <a:pt x="12270" y="21600"/>
                </a:lnTo>
                <a:arcTo wR="6391" hR="21600" stAng="5400000" swAng="522816"/>
                <a:lnTo>
                  <a:pt x="9330" y="19179"/>
                </a:lnTo>
                <a:arcTo wR="6391" hR="21600" stAng="5922816" swAng="4877184"/>
                <a:close/>
              </a:path>
            </a:pathLst>
          </a:cu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10"/>
          <p:cNvSpPr/>
          <p:nvPr/>
        </p:nvSpPr>
        <p:spPr>
          <a:xfrm flipH="1" flipV="1" rot="19723800">
            <a:off x="2743920" y="5144400"/>
            <a:ext cx="1204920" cy="507960"/>
          </a:xfrm>
          <a:custGeom>
            <a:avLst/>
            <a:gdLst>
              <a:gd name="textAreaLeft" fmla="*/ 200160 w 1204920"/>
              <a:gd name="textAreaRight" fmla="*/ 870120 w 120492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183" hR="21600" stAng="10800000" swAng="-5400000"/>
                <a:lnTo>
                  <a:pt x="12006" y="21600"/>
                </a:lnTo>
                <a:arcTo wR="7183" hR="21600" stAng="5400000" swAng="-2594775"/>
                <a:lnTo>
                  <a:pt x="21189" y="7200"/>
                </a:lnTo>
                <a:lnTo>
                  <a:pt x="16778" y="0"/>
                </a:lnTo>
                <a:lnTo>
                  <a:pt x="11544" y="7200"/>
                </a:lnTo>
                <a:lnTo>
                  <a:pt x="13955" y="7200"/>
                </a:lnTo>
                <a:arcTo wR="7183" hR="21600" stAng="2805225" swAng="2189217"/>
                <a:lnTo>
                  <a:pt x="9595" y="20346"/>
                </a:lnTo>
                <a:arcTo wR="7183" hR="21600" stAng="5805558" swAng="4994442"/>
                <a:close/>
              </a:path>
              <a:path fill="darkenLess" w="21600" h="21600">
                <a:moveTo>
                  <a:pt x="0" y="0"/>
                </a:moveTo>
                <a:arcTo wR="7183" hR="21600" stAng="10800000" swAng="-5400000"/>
                <a:lnTo>
                  <a:pt x="12006" y="21600"/>
                </a:lnTo>
                <a:arcTo wR="7183" hR="21600" stAng="5400000" swAng="405558"/>
                <a:lnTo>
                  <a:pt x="9595" y="20346"/>
                </a:lnTo>
                <a:arcTo wR="7183" hR="21600" stAng="5805558" swAng="4994442"/>
                <a:close/>
              </a:path>
            </a:pathLst>
          </a:cu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0"/>
          <p:cNvSpPr/>
          <p:nvPr/>
        </p:nvSpPr>
        <p:spPr>
          <a:xfrm flipH="1">
            <a:off x="2050920" y="4005360"/>
            <a:ext cx="1441440" cy="576000"/>
          </a:xfrm>
          <a:custGeom>
            <a:avLst/>
            <a:gdLst>
              <a:gd name="textAreaLeft" fmla="*/ 245880 w 1441440"/>
              <a:gd name="textAreaRight" fmla="*/ 1042920 w 144144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70" hR="21600" stAng="10800000" swAng="-5400000"/>
                <a:lnTo>
                  <a:pt x="11944" y="21600"/>
                </a:lnTo>
                <a:arcTo wR="7370" hR="21600" stAng="5400000" swAng="-2638782"/>
                <a:lnTo>
                  <a:pt x="21179" y="7200"/>
                </a:lnTo>
                <a:lnTo>
                  <a:pt x="17026" y="0"/>
                </a:lnTo>
                <a:lnTo>
                  <a:pt x="12031" y="7200"/>
                </a:lnTo>
                <a:lnTo>
                  <a:pt x="14318" y="7200"/>
                </a:lnTo>
                <a:arcTo wR="7370" hR="21600" stAng="2761218" swAng="2257462"/>
                <a:lnTo>
                  <a:pt x="9657" y="20534"/>
                </a:lnTo>
                <a:arcTo wR="7370" hR="21600" stAng="5781320" swAng="5018680"/>
                <a:close/>
              </a:path>
              <a:path fill="darkenLess" w="21600" h="21600">
                <a:moveTo>
                  <a:pt x="0" y="0"/>
                </a:moveTo>
                <a:arcTo wR="7370" hR="21600" stAng="10800000" swAng="-5400000"/>
                <a:lnTo>
                  <a:pt x="11944" y="21600"/>
                </a:lnTo>
                <a:arcTo wR="7370" hR="21600" stAng="5400000" swAng="381320"/>
                <a:lnTo>
                  <a:pt x="9657" y="20534"/>
                </a:lnTo>
                <a:arcTo wR="7370" hR="21600" stAng="5781320" swAng="5018680"/>
                <a:close/>
              </a:path>
            </a:pathLst>
          </a:cu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fontaine 1"/>
          <p:cNvPicPr/>
          <p:nvPr/>
        </p:nvPicPr>
        <p:blipFill>
          <a:blip r:embed="rId1"/>
          <a:stretch/>
        </p:blipFill>
        <p:spPr>
          <a:xfrm rot="274800">
            <a:off x="179280" y="1052280"/>
            <a:ext cx="4546800" cy="25574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2124000" y="2133720"/>
            <a:ext cx="28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La Fontaine d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Mont-Roy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5 CuadroTexto"/>
          <p:cNvSpPr/>
          <p:nvPr/>
        </p:nvSpPr>
        <p:spPr>
          <a:xfrm>
            <a:off x="606600" y="260280"/>
            <a:ext cx="41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Verdana"/>
              </a:rPr>
              <a:t>PARCS ET JARDI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5" descr="JardinBotanique_Montreal2"/>
          <p:cNvPicPr/>
          <p:nvPr/>
        </p:nvPicPr>
        <p:blipFill>
          <a:blip r:embed="rId2"/>
          <a:stretch/>
        </p:blipFill>
        <p:spPr>
          <a:xfrm rot="21394200">
            <a:off x="5502240" y="193680"/>
            <a:ext cx="2955960" cy="3736800"/>
          </a:xfrm>
          <a:prstGeom prst="rect">
            <a:avLst/>
          </a:prstGeom>
          <a:ln w="0">
            <a:noFill/>
          </a:ln>
        </p:spPr>
      </p:pic>
      <p:sp>
        <p:nvSpPr>
          <p:cNvPr id="208" name="7 Rectángulo"/>
          <p:cNvSpPr/>
          <p:nvPr/>
        </p:nvSpPr>
        <p:spPr>
          <a:xfrm>
            <a:off x="6889680" y="189000"/>
            <a:ext cx="15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Jardin d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Chin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6" descr="jardin japones"/>
          <p:cNvPicPr/>
          <p:nvPr/>
        </p:nvPicPr>
        <p:blipFill>
          <a:blip r:embed="rId3"/>
          <a:stretch/>
        </p:blipFill>
        <p:spPr>
          <a:xfrm rot="21354000">
            <a:off x="245880" y="3565440"/>
            <a:ext cx="3938400" cy="2957760"/>
          </a:xfrm>
          <a:prstGeom prst="rect">
            <a:avLst/>
          </a:prstGeom>
          <a:ln w="0">
            <a:noFill/>
          </a:ln>
        </p:spPr>
      </p:pic>
      <p:sp>
        <p:nvSpPr>
          <p:cNvPr id="210" name="9 Rectángulo"/>
          <p:cNvSpPr/>
          <p:nvPr/>
        </p:nvSpPr>
        <p:spPr>
          <a:xfrm>
            <a:off x="551880" y="52293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Jardin d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Japonai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7" descr="jandin gobierno"/>
          <p:cNvPicPr/>
          <p:nvPr/>
        </p:nvPicPr>
        <p:blipFill>
          <a:blip r:embed="rId4"/>
          <a:stretch/>
        </p:blipFill>
        <p:spPr>
          <a:xfrm rot="462000">
            <a:off x="4889520" y="3760920"/>
            <a:ext cx="3805200" cy="2854080"/>
          </a:xfrm>
          <a:prstGeom prst="rect">
            <a:avLst/>
          </a:prstGeom>
          <a:ln w="0">
            <a:noFill/>
          </a:ln>
        </p:spPr>
      </p:pic>
      <p:sp>
        <p:nvSpPr>
          <p:cNvPr id="212" name="11 Rectángulo"/>
          <p:cNvSpPr/>
          <p:nvPr/>
        </p:nvSpPr>
        <p:spPr>
          <a:xfrm>
            <a:off x="6277320" y="5300640"/>
            <a:ext cx="190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Jardin d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Gouverne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8:03:54Z</dcterms:created>
  <dc:creator>Usuario</dc:creator>
  <dc:description/>
  <dc:language>en-US</dc:language>
  <cp:lastModifiedBy>Nombre</cp:lastModifiedBy>
  <dcterms:modified xsi:type="dcterms:W3CDTF">2011-04-11T21:41:09Z</dcterms:modified>
  <cp:revision>26</cp:revision>
  <dc:subject/>
  <dc:title>Diapositiva 1</dc:title>
</cp:coreProperties>
</file>